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9880-226B-497B-9226-AE8FF2B18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8993-6904-434D-B6CC-22082581E7A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A450-4E54-4C72-B754-C50A0833312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2CE8-7B0A-4CBD-A400-1EB2EF8DF2CD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DAFC-F0B4-4CE8-BFF1-588C1D362A6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3693-BFAF-4ED4-8EE9-A64E33E70BB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11B8-E3E9-436F-A2D3-8F939B0DD6C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D2B7-5265-4BEA-A246-8F10F44A042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7C07-C023-4385-8F9A-30A7569FD9A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950F-AD5F-47A1-81EC-6B09013EC2C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99369-FE99-4017-9863-475CBC96565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B097-3A04-4519-B804-16DA0699820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7044-4488-4999-9258-4323B100E12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0313-64AB-482A-B096-F31927E9D00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1B6E-F551-4E2D-8A17-0B9388DE9FA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8976-F211-4CCD-AD73-43791F123E7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F0F5-FD4B-4BBE-BCAC-CDF5341ECA2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8CE4-E381-4952-90D9-17E025B946B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0A17-F75D-4701-A27C-622FC673659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5C00-545E-434D-AA92-F3AFFED0DB4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0841-3AC0-44B1-ABB6-500F0EE50BC0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BCC7-41DC-477F-9C66-9C0C93E114D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9C8A-F876-4F81-B7A7-6B074681B794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F81A-93BB-406A-9FE9-65C3D88F9B32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1690-F008-49BF-8668-60FBE6F9E735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119A-EB28-4841-996A-A05FB0582A3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AC72-39F9-4FB2-958F-31E38F71E4C9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0813-29B2-4F4B-8BF9-6E4B9D0EAF1F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23A83-5EFD-449B-975F-C637F026735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7B2F-1DC4-4D6D-A48E-19039AD8A056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B824-4B0D-40A2-BA74-4C3911478E48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CEC3-E767-4D32-BCF4-D1B3C110D61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1149-0679-4850-8640-254767D95C6B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6D41-061A-4B2B-9C37-9A00BC1AB551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3FF4-1F41-457B-AE54-7BA5E8C0A327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A800-002A-4FDF-A47A-A13BAA74E40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8719-708B-432D-94A8-16F0560F42EE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5991-E63B-47A4-ACC5-AD21BFE2A253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F248-BD33-4344-A091-3576E0D7826C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C381-754E-42DF-BF97-F45B696B7B4A}" type="slidenum"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8377-CFF5-40A3-B991-C4DD2072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923-8569-40CD-92D7-7E37A8C1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1C0E-7B66-4B25-B2C3-7A9C4551F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56DB-B046-4084-8484-54FA2F69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C0DB-CE58-4C68-A0EA-C26FAB2B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0737-2BE1-48A2-B366-477B8378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8F4C-DE6A-4A95-A7ED-FE6BC1BF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F9F1-397E-43F4-90F4-914ECEE6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5B96-7077-44F7-9B9F-3596C5D1F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704B-2459-4840-976E-2EE66622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E009-DF39-4840-83BE-8300EFEF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1C4-D011-4BB3-82E3-54282349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9AC6-2730-4D73-9F33-F341C543B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3748-FB7A-44BB-9778-BC61FFFA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7D2C6-DAD7-4826-8EA2-9833ED5F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EE5A-8435-4C07-808B-075B5B8C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400B-E852-465D-98D5-D1CD9A77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DF7-DCE4-4125-8872-ECE26C2A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D0C-7BFD-4845-A37C-9353A314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F80E-16E6-454C-B178-9E673677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459E-16EC-43D4-A760-D28A42B4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08E5-F50C-46A7-A4EC-5F8103CF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03E-4557-469E-807D-00EC8D5C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0E4E-C1ED-40A8-A603-A117B220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5876-7A48-43F2-BC5A-135EC863C7C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489C-D825-4237-8DD1-F8F05FABEEF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Using Wikis in Edu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724280" y="2666520"/>
            <a:ext cx="4013280" cy="388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Caroline County Educational Technology Workshop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August 1, 201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66"/>
                </a:solidFill>
                <a:latin typeface="Arial"/>
              </a:rPr>
              <a:t>http://carolinecountytechnology.wikispaces.com/</a:t>
            </a: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gn In To Wikispa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849640" cy="43876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130" name="Text Box 5"/>
          <p:cNvSpPr/>
          <p:nvPr/>
        </p:nvSpPr>
        <p:spPr>
          <a:xfrm>
            <a:off x="449568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se the user name and password you created or were assigne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diting Pa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How to create your unique si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Edit This P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4" name="Group 6"/>
          <p:cNvGrpSpPr/>
          <p:nvPr/>
        </p:nvGrpSpPr>
        <p:grpSpPr>
          <a:xfrm>
            <a:off x="1676520" y="2394000"/>
            <a:ext cx="7162560" cy="4387680"/>
            <a:chOff x="1676520" y="2394000"/>
            <a:chExt cx="7162560" cy="4387680"/>
          </a:xfrm>
        </p:grpSpPr>
        <p:pic>
          <p:nvPicPr>
            <p:cNvPr id="135" name="Picture 3" descr=""/>
            <p:cNvPicPr/>
            <p:nvPr/>
          </p:nvPicPr>
          <p:blipFill>
            <a:blip r:embed="rId1"/>
            <a:stretch/>
          </p:blipFill>
          <p:spPr>
            <a:xfrm>
              <a:off x="1676520" y="2394000"/>
              <a:ext cx="5849640" cy="43876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sp>
          <p:nvSpPr>
            <p:cNvPr id="136" name="AutoShape 4"/>
            <p:cNvSpPr/>
            <p:nvPr/>
          </p:nvSpPr>
          <p:spPr>
            <a:xfrm>
              <a:off x="7391520" y="2743200"/>
              <a:ext cx="1447560" cy="762120"/>
            </a:xfrm>
            <a:prstGeom prst="leftArrow">
              <a:avLst>
                <a:gd name="adj1" fmla="val 50000"/>
                <a:gd name="adj2" fmla="val 47485"/>
              </a:avLst>
            </a:prstGeom>
            <a:solidFill>
              <a:srgbClr val="ff6600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Editing Toolbar Will Appe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1"/>
          <a:stretch/>
        </p:blipFill>
        <p:spPr>
          <a:xfrm>
            <a:off x="934920" y="2514600"/>
            <a:ext cx="8132760" cy="368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asic Editing Fun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3732120"/>
            <a:ext cx="3773520" cy="23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ol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aliciz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nderl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ext Color, Alignment, &amp; Shad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nt Siz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757760" y="3655800"/>
            <a:ext cx="377352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umbered Li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lleted Li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ert Horizontal Lin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ert Hyperlink (UR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move Hyperlink (UR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2" name="Group 9"/>
          <p:cNvGrpSpPr/>
          <p:nvPr/>
        </p:nvGrpSpPr>
        <p:grpSpPr>
          <a:xfrm>
            <a:off x="1371600" y="2362320"/>
            <a:ext cx="6019920" cy="1587240"/>
            <a:chOff x="1371600" y="2362320"/>
            <a:chExt cx="6019920" cy="1587240"/>
          </a:xfrm>
        </p:grpSpPr>
        <p:pic>
          <p:nvPicPr>
            <p:cNvPr id="143" name="Picture 7" descr=""/>
            <p:cNvPicPr/>
            <p:nvPr/>
          </p:nvPicPr>
          <p:blipFill>
            <a:blip r:embed="rId1"/>
            <a:stretch/>
          </p:blipFill>
          <p:spPr>
            <a:xfrm>
              <a:off x="1371600" y="2362320"/>
              <a:ext cx="5943600" cy="811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44" name="Text Box 8"/>
            <p:cNvSpPr/>
            <p:nvPr/>
          </p:nvSpPr>
          <p:spPr>
            <a:xfrm>
              <a:off x="1447920" y="3124080"/>
              <a:ext cx="594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1   2    3   4          5            6    7    8   9  10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Editing Func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14040" y="38098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ert images and fi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bed widg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ert 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ert special charac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sert c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7" name="Group 6"/>
          <p:cNvGrpSpPr/>
          <p:nvPr/>
        </p:nvGrpSpPr>
        <p:grpSpPr>
          <a:xfrm>
            <a:off x="3352680" y="2362320"/>
            <a:ext cx="2362320" cy="1297800"/>
            <a:chOff x="3352680" y="2362320"/>
            <a:chExt cx="2362320" cy="1297800"/>
          </a:xfrm>
        </p:grpSpPr>
        <p:pic>
          <p:nvPicPr>
            <p:cNvPr id="148" name="Picture 4" descr=""/>
            <p:cNvPicPr/>
            <p:nvPr/>
          </p:nvPicPr>
          <p:blipFill>
            <a:blip r:embed="rId1"/>
            <a:stretch/>
          </p:blipFill>
          <p:spPr>
            <a:xfrm>
              <a:off x="3352680" y="2362320"/>
              <a:ext cx="2362320" cy="804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49" name="Text Box 5"/>
            <p:cNvSpPr/>
            <p:nvPr/>
          </p:nvSpPr>
          <p:spPr>
            <a:xfrm>
              <a:off x="3352680" y="32004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Arial"/>
                </a:rPr>
                <a:t>1    2    3   4    5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740160" y="892440"/>
            <a:ext cx="8120880" cy="74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Inserting Images and Document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574800" y="1981080"/>
            <a:ext cx="5568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27036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Follow detailed instructions here: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97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http://help.wikispaces.com/Editing+a+Page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97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97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Or watch the video embedded (also linked from this icon below)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3974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☼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3" name="edit a wiki files.mp4" descr=""/>
          <p:cNvPicPr/>
          <p:nvPr/>
        </p:nvPicPr>
        <p:blipFill>
          <a:blip r:embed="rId1"/>
          <a:stretch/>
        </p:blipFill>
        <p:spPr>
          <a:xfrm>
            <a:off x="3581280" y="1981080"/>
            <a:ext cx="55627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762120" y="2362320"/>
            <a:ext cx="4800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Click on the Embed Widget icon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Select the icon that corresponds to the widget type you are inserting.  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If you cannot find an appropriate icon, select Other HTML.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57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Paste the Embed HTML code from your widget into the text field and click Save. (</a:t>
            </a:r>
            <a:r>
              <a:rPr b="0" i="1" lang="en-US" sz="2300" spc="-1" strike="noStrike">
                <a:solidFill>
                  <a:srgbClr val="003366"/>
                </a:solidFill>
                <a:latin typeface="Arial"/>
              </a:rPr>
              <a:t>see next slide for image</a:t>
            </a:r>
            <a:r>
              <a:rPr b="0" lang="en-US" sz="23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serting Dynamic HTML - Widge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5562720" y="2362320"/>
          <a:ext cx="533160" cy="41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362320"/>
                    <a:ext cx="533160" cy="41724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58" name="Picture 8" descr=""/>
          <p:cNvPicPr/>
          <p:nvPr/>
        </p:nvPicPr>
        <p:blipFill>
          <a:blip r:embed="rId3"/>
          <a:stretch/>
        </p:blipFill>
        <p:spPr>
          <a:xfrm>
            <a:off x="5438880" y="2971800"/>
            <a:ext cx="3628800" cy="263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serting T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50547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on the table ic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ect the number of rows and colum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Insert T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876920" y="2368440"/>
            <a:ext cx="738000" cy="603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"/>
          <p:cNvPicPr/>
          <p:nvPr/>
        </p:nvPicPr>
        <p:blipFill>
          <a:blip r:embed="rId2">
            <a:lum contrast="-2000"/>
          </a:blip>
          <a:stretch/>
        </p:blipFill>
        <p:spPr>
          <a:xfrm>
            <a:off x="6291360" y="2362320"/>
            <a:ext cx="2776320" cy="236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matting T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911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ing on any cell in the table will open the formatting men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ividual cells, rows, columns, and the entire table can be format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1"/>
          <a:stretch/>
        </p:blipFill>
        <p:spPr>
          <a:xfrm>
            <a:off x="6095880" y="2467080"/>
            <a:ext cx="2971800" cy="2409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ikis are part of the Social Media Revolution, are you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62120" y="579132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cial Media Revolutio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71500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ing a Table of Cont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sert a widget at the start of your page (note: you can do this well after creating the pag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ect Table of contents from the Widget men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html code will pull all text designated as Heading will display in outline form in a Table of Contents displayed in the upper right of the page.  The contents are hyperlinks to that section of the pag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ble of Cont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eading 1 text will be left most justified, Heading 2 will be slightly indented, and Heading 3 will be slightly more indented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0" name="Object 4"/>
          <p:cNvGraphicFramePr/>
          <p:nvPr/>
        </p:nvGraphicFramePr>
        <p:xfrm>
          <a:off x="1981080" y="3657600"/>
          <a:ext cx="556272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657600"/>
                    <a:ext cx="5562720" cy="3048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avigation Men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diting Your Navigation Men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373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 the left side of your wiki, you have a navigation menu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r navigation menu will appear on all pages of your wik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Your navigation menu should include links to all the pages of you wiki and can include links to outside resourc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o edit your menu, click on the Edit Navigation link that is located at the bottom of your menu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76" name="Object 1024"/>
          <p:cNvGraphicFramePr/>
          <p:nvPr/>
        </p:nvGraphicFramePr>
        <p:xfrm>
          <a:off x="7920000" y="0"/>
          <a:ext cx="1133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0" y="0"/>
                    <a:ext cx="113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6"/>
          <p:cNvSpPr/>
          <p:nvPr/>
        </p:nvSpPr>
        <p:spPr>
          <a:xfrm>
            <a:off x="8153280" y="6553080"/>
            <a:ext cx="685800" cy="2286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3200400" y="5791320"/>
            <a:ext cx="4876920" cy="838080"/>
          </a:xfrm>
          <a:prstGeom prst="line">
            <a:avLst/>
          </a:prstGeom>
          <a:ln w="572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diting Your Navigation Men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you click Edit Navigation, the space menu will open for editing just like any other page of your wik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editing toolbar will appear – allowing you to add text, hyperlinks, images, and widgets just as you can for all wiki pag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diting Your Navigation Menu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447920" y="2409840"/>
            <a:ext cx="6629400" cy="41432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iscussion Bo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Reading, Creating, and Replying to Discussion Top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pen the Discussion Ta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87" name="Group 5"/>
          <p:cNvGrpSpPr/>
          <p:nvPr/>
        </p:nvGrpSpPr>
        <p:grpSpPr>
          <a:xfrm>
            <a:off x="1676520" y="2362320"/>
            <a:ext cx="5849640" cy="4387680"/>
            <a:chOff x="1676520" y="2362320"/>
            <a:chExt cx="5849640" cy="4387680"/>
          </a:xfrm>
        </p:grpSpPr>
        <p:pic>
          <p:nvPicPr>
            <p:cNvPr id="188" name="Picture 3" descr=""/>
            <p:cNvPicPr/>
            <p:nvPr/>
          </p:nvPicPr>
          <p:blipFill>
            <a:blip r:embed="rId1"/>
            <a:stretch/>
          </p:blipFill>
          <p:spPr>
            <a:xfrm>
              <a:off x="1676520" y="2362320"/>
              <a:ext cx="5849640" cy="43876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sp>
          <p:nvSpPr>
            <p:cNvPr id="189" name="AutoShape 4"/>
            <p:cNvSpPr/>
            <p:nvPr/>
          </p:nvSpPr>
          <p:spPr>
            <a:xfrm flipV="1" rot="5400000">
              <a:off x="3009600" y="3314520"/>
              <a:ext cx="1447920" cy="762120"/>
            </a:xfrm>
            <a:prstGeom prst="leftArrow">
              <a:avLst>
                <a:gd name="adj1" fmla="val 50000"/>
                <a:gd name="adj2" fmla="val 47496"/>
              </a:avLst>
            </a:prstGeom>
            <a:solidFill>
              <a:srgbClr val="ff6600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Discussion Topic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1" name="Group 5"/>
          <p:cNvGrpSpPr/>
          <p:nvPr/>
        </p:nvGrpSpPr>
        <p:grpSpPr>
          <a:xfrm>
            <a:off x="1828800" y="2394000"/>
            <a:ext cx="6095880" cy="4387680"/>
            <a:chOff x="1828800" y="2394000"/>
            <a:chExt cx="6095880" cy="4387680"/>
          </a:xfrm>
        </p:grpSpPr>
        <p:pic>
          <p:nvPicPr>
            <p:cNvPr id="192" name="Picture 3" descr=""/>
            <p:cNvPicPr/>
            <p:nvPr/>
          </p:nvPicPr>
          <p:blipFill>
            <a:blip r:embed="rId1"/>
            <a:stretch/>
          </p:blipFill>
          <p:spPr>
            <a:xfrm>
              <a:off x="1828800" y="2394000"/>
              <a:ext cx="5850000" cy="43876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sp>
          <p:nvSpPr>
            <p:cNvPr id="193" name="AutoShape 4"/>
            <p:cNvSpPr/>
            <p:nvPr/>
          </p:nvSpPr>
          <p:spPr>
            <a:xfrm>
              <a:off x="6477120" y="4572000"/>
              <a:ext cx="1447560" cy="762120"/>
            </a:xfrm>
            <a:prstGeom prst="leftArrow">
              <a:avLst>
                <a:gd name="adj1" fmla="val 50000"/>
                <a:gd name="adj2" fmla="val 47485"/>
              </a:avLst>
            </a:prstGeom>
            <a:solidFill>
              <a:srgbClr val="ff6600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on a Topic to Open I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5" name="Group 5"/>
          <p:cNvGrpSpPr/>
          <p:nvPr/>
        </p:nvGrpSpPr>
        <p:grpSpPr>
          <a:xfrm>
            <a:off x="990360" y="2394000"/>
            <a:ext cx="6383520" cy="4387680"/>
            <a:chOff x="990360" y="2394000"/>
            <a:chExt cx="6383520" cy="4387680"/>
          </a:xfrm>
        </p:grpSpPr>
        <p:pic>
          <p:nvPicPr>
            <p:cNvPr id="196" name="Picture 4" descr=""/>
            <p:cNvPicPr/>
            <p:nvPr/>
          </p:nvPicPr>
          <p:blipFill>
            <a:blip r:embed="rId1"/>
            <a:stretch/>
          </p:blipFill>
          <p:spPr>
            <a:xfrm>
              <a:off x="1523880" y="2394000"/>
              <a:ext cx="5850000" cy="43876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sp>
          <p:nvSpPr>
            <p:cNvPr id="197" name="AutoShape 3"/>
            <p:cNvSpPr/>
            <p:nvPr/>
          </p:nvSpPr>
          <p:spPr>
            <a:xfrm flipV="1" rot="10800000">
              <a:off x="990360" y="3276720"/>
              <a:ext cx="1447560" cy="761760"/>
            </a:xfrm>
            <a:prstGeom prst="leftArrow">
              <a:avLst>
                <a:gd name="adj1" fmla="val 50000"/>
                <a:gd name="adj2" fmla="val 47507"/>
              </a:avLst>
            </a:prstGeom>
            <a:solidFill>
              <a:srgbClr val="ff6600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egistering for Wikispaces &amp; Creating Your Sp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ccessing the free Plus features for educa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plying to a Discussion Top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99" name="Group 6"/>
          <p:cNvGrpSpPr/>
          <p:nvPr/>
        </p:nvGrpSpPr>
        <p:grpSpPr>
          <a:xfrm>
            <a:off x="1523880" y="2362320"/>
            <a:ext cx="6172200" cy="4387680"/>
            <a:chOff x="1523880" y="2362320"/>
            <a:chExt cx="6172200" cy="4387680"/>
          </a:xfrm>
        </p:grpSpPr>
        <p:pic>
          <p:nvPicPr>
            <p:cNvPr id="200" name="Picture 3" descr=""/>
            <p:cNvPicPr/>
            <p:nvPr/>
          </p:nvPicPr>
          <p:blipFill>
            <a:blip r:embed="rId1"/>
            <a:stretch/>
          </p:blipFill>
          <p:spPr>
            <a:xfrm>
              <a:off x="1523880" y="2362320"/>
              <a:ext cx="5850000" cy="438768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sp>
          <p:nvSpPr>
            <p:cNvPr id="201" name="AutoShape 5"/>
            <p:cNvSpPr/>
            <p:nvPr/>
          </p:nvSpPr>
          <p:spPr>
            <a:xfrm>
              <a:off x="6248520" y="4495680"/>
              <a:ext cx="1447560" cy="762120"/>
            </a:xfrm>
            <a:prstGeom prst="leftArrow">
              <a:avLst>
                <a:gd name="adj1" fmla="val 50000"/>
                <a:gd name="adj2" fmla="val 47485"/>
              </a:avLst>
            </a:prstGeom>
            <a:solidFill>
              <a:srgbClr val="ff6600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anaging Your Wik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ustomize the look, feel, and performance of your wik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ding Pa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4486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add a new page to your wiki, click on the New Page link located above your navigation men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itle your new pa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6" name="Object 5"/>
          <p:cNvGraphicFramePr/>
          <p:nvPr/>
        </p:nvGraphicFramePr>
        <p:xfrm>
          <a:off x="6629400" y="3581280"/>
          <a:ext cx="1603440" cy="31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3581280"/>
                    <a:ext cx="160344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Line 6"/>
          <p:cNvSpPr/>
          <p:nvPr/>
        </p:nvSpPr>
        <p:spPr>
          <a:xfrm>
            <a:off x="4572000" y="3276720"/>
            <a:ext cx="2209680" cy="53316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9" name="Object 7"/>
          <p:cNvGraphicFramePr/>
          <p:nvPr/>
        </p:nvGraphicFramePr>
        <p:xfrm>
          <a:off x="1295280" y="4343400"/>
          <a:ext cx="3657600" cy="22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343400"/>
                    <a:ext cx="3657600" cy="229536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cking Change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276360" y="2361960"/>
            <a:ext cx="5715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track page edits and discussions, click on the Recent Changes link located above your navigation menu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view page edits as well as new discussion messag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elect to be notified every time a change is made to your wik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990720" y="2438280"/>
          <a:ext cx="1603080" cy="31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160308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Line 5"/>
          <p:cNvSpPr/>
          <p:nvPr/>
        </p:nvSpPr>
        <p:spPr>
          <a:xfrm flipH="1" flipV="1">
            <a:off x="2437920" y="2895480"/>
            <a:ext cx="1219320" cy="6098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 Notified of Chan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86000"/>
            <a:ext cx="419256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You can elect to be notified of page edits and discussion messages as they occur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66"/>
                </a:solidFill>
                <a:latin typeface="Arial"/>
              </a:rPr>
              <a:t>Click on the Notify Me tab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ect if you want to monitor the entire space or just a single p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ect if you want to be notified of page edits, new discussion messages, or bo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ect if you want to be notified via e-mail or RSS subscrip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8" name="Object 1"/>
          <p:cNvGraphicFramePr/>
          <p:nvPr/>
        </p:nvGraphicFramePr>
        <p:xfrm>
          <a:off x="4645080" y="2438280"/>
          <a:ext cx="40417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5080" y="2438280"/>
                    <a:ext cx="4041720" cy="426744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nage Your Wiki’s Pre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154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 the wiki site organizer, you can manage all of the following from the Manage Space lin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me, description, copyright licen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k and feel (colors, templa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embers and permiss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scri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22" name="Object 4"/>
          <p:cNvGraphicFramePr/>
          <p:nvPr/>
        </p:nvGraphicFramePr>
        <p:xfrm>
          <a:off x="7391520" y="2438280"/>
          <a:ext cx="1603080" cy="31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1520" y="2438280"/>
                    <a:ext cx="160308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 flipV="1">
            <a:off x="4572000" y="3124080"/>
            <a:ext cx="2971800" cy="4572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nage Your Wiki’s Preferen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6" name="Object 3"/>
          <p:cNvGraphicFramePr/>
          <p:nvPr/>
        </p:nvGraphicFramePr>
        <p:xfrm>
          <a:off x="1600200" y="2362320"/>
          <a:ext cx="5486400" cy="427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62320"/>
                    <a:ext cx="5486400" cy="427968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k and Feel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29" name="Object 3"/>
          <p:cNvGraphicFramePr/>
          <p:nvPr/>
        </p:nvGraphicFramePr>
        <p:xfrm>
          <a:off x="1219320" y="2362320"/>
          <a:ext cx="6324480" cy="44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62320"/>
                    <a:ext cx="6324480" cy="440028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ubscrip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2" name="Object 3"/>
          <p:cNvGraphicFramePr/>
          <p:nvPr/>
        </p:nvGraphicFramePr>
        <p:xfrm>
          <a:off x="1828800" y="2362320"/>
          <a:ext cx="4753080" cy="44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362320"/>
                    <a:ext cx="4753080" cy="446544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vite People to Your Wik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35" name="Object 3"/>
          <p:cNvGraphicFramePr/>
          <p:nvPr/>
        </p:nvGraphicFramePr>
        <p:xfrm>
          <a:off x="1371600" y="2438280"/>
          <a:ext cx="6541920" cy="41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541920" cy="419580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805920" y="300600"/>
            <a:ext cx="5493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Registering &amp; Creating Your First Wikispace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09480" y="1142640"/>
            <a:ext cx="3200400" cy="8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You may already completed this ste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560" y="236232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u can have multiple wikis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u can develop them for professional learning communities, each class period, after school groups, your quilting club, et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13" name="Object 1024"/>
          <p:cNvGraphicFramePr/>
          <p:nvPr/>
        </p:nvGraphicFramePr>
        <p:xfrm>
          <a:off x="3657600" y="1523880"/>
          <a:ext cx="5257800" cy="483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523880"/>
                    <a:ext cx="5257800" cy="4834080"/>
                  </a:xfrm>
                  <a:prstGeom prst="rect">
                    <a:avLst/>
                  </a:prstGeom>
                  <a:ln w="9360">
                    <a:solidFill>
                      <a:srgbClr val="0033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5" name="Rectangle 7"/>
          <p:cNvSpPr/>
          <p:nvPr/>
        </p:nvSpPr>
        <p:spPr>
          <a:xfrm>
            <a:off x="762120" y="64612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wikispaces.c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ximize Your Wiki Experie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kispaces Tips and Tricks –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tp://www.wikispaces.com/wikitip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kispaces Help –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tp://www.wikispaces.com/help+index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kispaces Tours –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tp://www.wikispaces.com/site/tou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reating / Registering Educational Wikis –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tp://www.wikispaces.com/help+teacher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gistering for Wikispaces &amp; Creating Your Sp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kispaces in Edu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kispaces is offering its Plus account to for FREE ($50/year value) for all educational wik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Plus account offers the followin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o adverti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nhanced privacy fea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creased storage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ttp://www.wikispaces.com/content/for/teac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reating a Free Educational Wik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ke sure you are signed into Wikispa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 to: http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://www.wikispaces.com/content/for/teac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 already have a wiki. Can I upgrade it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es. Click 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Manage Wik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, then 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ubscription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 Under 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omplimentary upgrades for educators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 click 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equest your free K-12 plan wiki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gistering Student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there an easy way to create accounts for all of my student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Sure - if you don't want your students to have to create accounts themselves, just email </a:t>
            </a:r>
            <a:r>
              <a:rPr b="0" lang="en-US" sz="1900" spc="-1" strike="noStrike">
                <a:solidFill>
                  <a:srgbClr val="0000ff"/>
                </a:solidFill>
                <a:latin typeface="Arial"/>
              </a:rPr>
              <a:t>help@wikispaces.com</a:t>
            </a: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 with a list of usernames, email addresses (if you have them - if you don't just leave them out – its not a requirement to start the wikispace account), and passwords in the following format and we'll create the accounts for you. You can make the passwords unique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lvl="2" marL="1017000" indent="-203400">
              <a:lnSpc>
                <a:spcPct val="80000"/>
              </a:lnSpc>
              <a:spcBef>
                <a:spcPts val="425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66"/>
                </a:solidFill>
                <a:latin typeface="Arial"/>
              </a:rPr>
              <a:t>user1,email1@address.com,password1</a:t>
            </a:r>
            <a:r>
              <a:rPr b="0" lang="en-US" sz="1700" spc="-1" strike="noStrike">
                <a:solidFill>
                  <a:srgbClr val="003366"/>
                </a:solidFill>
                <a:latin typeface="Arial Unicode MS"/>
              </a:rPr>
              <a:t>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ngth of Usernames and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Please make sure that usernames are at least 3 characters long (we allow letters, numbers, underscores _, or dashes -) and that passwords are at least 6 characters long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hich Space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0960" indent="-25416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Finally, make sure to let us know which wikispace we should add them to as members.</a:t>
            </a:r>
            <a:br>
              <a:rPr sz="1900"/>
            </a:br>
            <a:r>
              <a:rPr b="0" lang="en-US" sz="19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curity Setting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kispaces has different permissions settings for your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blic: Anyone can view or edit your Wikisp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tected: Anyone can view your space but only members can edi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vate: Only members can view or edit your spa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ign In To Wikispa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5" name="Group 1030"/>
          <p:cNvGrpSpPr/>
          <p:nvPr/>
        </p:nvGrpSpPr>
        <p:grpSpPr>
          <a:xfrm>
            <a:off x="1828800" y="2286000"/>
            <a:ext cx="6629400" cy="4492800"/>
            <a:chOff x="1828800" y="2286000"/>
            <a:chExt cx="6629400" cy="4492800"/>
          </a:xfrm>
        </p:grpSpPr>
        <p:pic>
          <p:nvPicPr>
            <p:cNvPr id="126" name="Picture 1028" descr=""/>
            <p:cNvPicPr/>
            <p:nvPr/>
          </p:nvPicPr>
          <p:blipFill>
            <a:blip r:embed="rId1"/>
            <a:stretch/>
          </p:blipFill>
          <p:spPr>
            <a:xfrm>
              <a:off x="1828800" y="2419200"/>
              <a:ext cx="5813280" cy="4359600"/>
            </a:xfrm>
            <a:prstGeom prst="rect">
              <a:avLst/>
            </a:prstGeom>
            <a:ln w="9360">
              <a:solidFill>
                <a:srgbClr val="003366"/>
              </a:solidFill>
              <a:miter/>
            </a:ln>
          </p:spPr>
        </p:pic>
        <p:sp>
          <p:nvSpPr>
            <p:cNvPr id="127" name="AutoShape 1029"/>
            <p:cNvSpPr/>
            <p:nvPr/>
          </p:nvSpPr>
          <p:spPr>
            <a:xfrm>
              <a:off x="7010280" y="2286000"/>
              <a:ext cx="1447920" cy="762120"/>
            </a:xfrm>
            <a:prstGeom prst="leftArrow">
              <a:avLst>
                <a:gd name="adj1" fmla="val 50000"/>
                <a:gd name="adj2" fmla="val 47496"/>
              </a:avLst>
            </a:prstGeom>
            <a:solidFill>
              <a:srgbClr val="ff6600"/>
            </a:solidFill>
            <a:ln w="57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7T11:53:01Z</dcterms:created>
  <dc:creator>JDORMAN</dc:creator>
  <dc:description/>
  <dc:language>en-US</dc:language>
  <cp:lastModifiedBy>CCPS</cp:lastModifiedBy>
  <dcterms:modified xsi:type="dcterms:W3CDTF">2011-07-29T05:33:49Z</dcterms:modified>
  <cp:revision>100</cp:revision>
  <dc:subject/>
  <dc:title>Navigating Wikispaces</dc:title>
</cp:coreProperties>
</file>